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80033-3FF6-4266-B544-F79C65EE8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11EB3-ED71-4A3D-B09A-4F746E239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DBDC5-C5D3-4A10-B161-97B58937D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4F2A5-257F-480B-AF34-361446DF6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A1755-14CB-4A3E-AF19-2270A8C17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955B9-FEF6-43C3-B6F6-7DF4838AF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BB1FA-A540-48C0-BD73-BB4975B4E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18F2C-36D2-4991-B5B6-D86DC4708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34E8F-7F4F-44A2-9330-F7F1848B0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49000" y="107640"/>
            <a:ext cx="8042040" cy="61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F5BBE-5899-4E68-8006-DB144509A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B3344-B482-464F-B8FE-5F40EDC0D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936AF-ABC0-4E45-8C9B-59BDB4319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BAB57-AEFA-4541-A4F9-2EA8D80B8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D1A20-2CAC-4D33-8EC3-B2CBFB838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98395-DA82-45B2-9E6F-EB9DA5C2B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65E85-AF3F-455E-A4B9-AADFA8B65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1FC55-D85E-4C95-B5F6-48595DADA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A7854-E46B-4F7B-9985-811D1B0CB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FF15C-56F3-4E9A-BBB2-CB4264400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F627A-1F2A-40A8-AF5B-0BCD7576D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49000" y="107640"/>
            <a:ext cx="8042040" cy="61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C0DD0-EDCA-4E1E-A4D8-EF5CF98E8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30E9F-D6A0-415C-944F-936CBAFA0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5EF42-C3F7-4AE2-84D6-8A1582B9F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62188-8BF5-4FC3-85E4-AF5263DD0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Click to edit the title text format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2" marL="9684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3" marL="1263600" indent="-295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4" marL="15462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5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6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News Gothic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555B3AB-B9B0-4930-AB25-7A1A049A74CE}" type="datetime">
              <a:rPr b="0" lang="en-US" sz="1200" spc="-1" strike="noStrike">
                <a:solidFill>
                  <a:srgbClr val="ffffff"/>
                </a:solidFill>
                <a:latin typeface="News Gothic MT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4960" y="6275520"/>
            <a:ext cx="4840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3600" spc="-1" strike="noStrike">
                <a:solidFill>
                  <a:srgbClr val="ffffff"/>
                </a:solidFill>
                <a:latin typeface="News Gothic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BA42EA-BB62-4F84-A29B-B489018FF264}" type="slidenum">
              <a:rPr b="0" lang="en-US" sz="3600" spc="-1" strike="noStrike">
                <a:solidFill>
                  <a:srgbClr val="ffffff"/>
                </a:solidFill>
                <a:latin typeface="News Gothic MT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1328760" y="1295280"/>
            <a:ext cx="6486480" cy="31528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Click to edit the title text format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2" marL="9684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3" marL="1263600" indent="-295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4" marL="15462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5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6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News Gothic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B69F157-2909-4ADA-A83E-D5234CD7BD10}" type="datetime">
              <a:rPr b="0" lang="en-US" sz="1200" spc="-1" strike="noStrike">
                <a:solidFill>
                  <a:srgbClr val="ffffff"/>
                </a:solidFill>
                <a:latin typeface="News Gothic MT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264960" y="6275520"/>
            <a:ext cx="4840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3600" spc="-1" strike="noStrike">
                <a:solidFill>
                  <a:srgbClr val="ffffff"/>
                </a:solidFill>
                <a:latin typeface="News Gothic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8E346F-3BC0-41E8-98D5-6F9BA4A275D4}" type="slidenum">
              <a:rPr b="0" lang="en-US" sz="3600" spc="-1" strike="noStrike">
                <a:solidFill>
                  <a:srgbClr val="ffffff"/>
                </a:solidFill>
                <a:latin typeface="News Gothic MT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ct"/><Relationship Id="rId3" Type="http://schemas.openxmlformats.org/officeDocument/2006/relationships/image" Target="../media/image4.pct"/><Relationship Id="rId4" Type="http://schemas.openxmlformats.org/officeDocument/2006/relationships/image" Target="../media/image5.pct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22280" y="1523880"/>
            <a:ext cx="6499440" cy="1725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Animal Phyla Chart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700"/>
            </a:br>
            <a:r>
              <a:rPr b="0" lang="en-US" sz="3700" spc="-1" strike="noStrike">
                <a:solidFill>
                  <a:srgbClr val="2c7c9f"/>
                </a:solidFill>
                <a:latin typeface="News Gothic MT"/>
              </a:rPr>
              <a:t>Respiration</a:t>
            </a:r>
            <a:br>
              <a:rPr sz="3700"/>
            </a:br>
            <a:endParaRPr b="0" lang="en-US" sz="37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Diffusion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ext Placeholder 2" descr=""/>
          <p:cNvPicPr/>
          <p:nvPr/>
        </p:nvPicPr>
        <p:blipFill>
          <a:blip r:embed="rId2"/>
          <a:stretch/>
        </p:blipFill>
        <p:spPr>
          <a:xfrm>
            <a:off x="609480" y="152280"/>
            <a:ext cx="3353040" cy="26672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914400" y="2971800"/>
            <a:ext cx="6985080" cy="35942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4343400" y="533520"/>
            <a:ext cx="370836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600"/>
            </a:b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Nematodes</a:t>
            </a:r>
            <a:br>
              <a:rPr sz="4600"/>
            </a:b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(roundworms)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pic>
        <p:nvPicPr>
          <p:cNvPr id="85" name="Text Placeholder 2" descr=""/>
          <p:cNvPicPr/>
          <p:nvPr/>
        </p:nvPicPr>
        <p:blipFill>
          <a:blip r:embed="rId2"/>
          <a:stretch/>
        </p:blipFill>
        <p:spPr>
          <a:xfrm>
            <a:off x="762120" y="1981080"/>
            <a:ext cx="78292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1920" y="274320"/>
            <a:ext cx="8991720" cy="208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 u="sng">
                <a:solidFill>
                  <a:srgbClr val="2c7c9f"/>
                </a:solidFill>
                <a:uFillTx/>
                <a:latin typeface="News Gothic MT"/>
              </a:rPr>
              <a:t>Miscellaneous:</a:t>
            </a:r>
            <a:r>
              <a:rPr b="0" lang="en-US" sz="4100" spc="-1" strike="noStrike">
                <a:solidFill>
                  <a:srgbClr val="2c7c9f"/>
                </a:solidFill>
                <a:latin typeface="News Gothic MT"/>
              </a:rPr>
              <a:t> </a:t>
            </a:r>
            <a:br>
              <a:rPr sz="4100"/>
            </a:br>
            <a:r>
              <a:rPr b="0" lang="en-US" sz="4100" spc="-1" strike="noStrike">
                <a:solidFill>
                  <a:srgbClr val="2c7c9f"/>
                </a:solidFill>
                <a:latin typeface="News Gothic MT"/>
              </a:rPr>
              <a:t>-Symmetry       -Body cavity</a:t>
            </a:r>
            <a:br>
              <a:rPr sz="4100"/>
            </a:br>
            <a:r>
              <a:rPr b="0" lang="en-US" sz="4100" spc="-1" strike="noStrike">
                <a:solidFill>
                  <a:srgbClr val="2c7c9f"/>
                </a:solidFill>
                <a:latin typeface="News Gothic MT"/>
              </a:rPr>
              <a:t> -Number of germ cell layers</a:t>
            </a:r>
            <a:endParaRPr b="0" lang="en-US" sz="41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2590920"/>
            <a:ext cx="8229600" cy="35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Bilateral symmetry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Pseudocoelomate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3 germ cell layers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Body Support/Movement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549000" y="1980720"/>
            <a:ext cx="804204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Exoskeleton (cuticle)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----------------------------------------------------------------------------------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True muscle tissue – longitudinal muscles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Nervous Control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549000" y="2209680"/>
            <a:ext cx="804204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Central, circular brain-like ganglion with nerve cords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Reproduction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549000" y="2057040"/>
            <a:ext cx="80420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xual: most species have separate sexes with internal fertilization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Digestion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380520" y="205704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Mouth, intestine, &amp; anus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	</a:t>
            </a: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(complete digestive tract – 2 openings)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Circulation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549000" y="1905120"/>
            <a:ext cx="80420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None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Excretion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549000" y="1905120"/>
            <a:ext cx="80420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Excretory tubules &amp; pore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2T00:17:18Z</dcterms:created>
  <dc:creator>Keith or Sherri Holmgren</dc:creator>
  <dc:description/>
  <dc:language>en-US</dc:language>
  <cp:lastModifiedBy>NHS NPS</cp:lastModifiedBy>
  <dcterms:modified xsi:type="dcterms:W3CDTF">2012-05-15T13:30:18Z</dcterms:modified>
  <cp:revision>5</cp:revision>
  <dc:subject/>
  <dc:title>Animal Phyla Chart</dc:title>
</cp:coreProperties>
</file>